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0.gif" ContentType="image/gif"/>
  <Override PartName="/ppt/media/image23.png" ContentType="image/png"/>
  <Override PartName="/ppt/media/image4.png" ContentType="image/png"/>
  <Override PartName="/ppt/media/image24.gif" ContentType="image/gif"/>
  <Override PartName="/ppt/media/image27.gif" ContentType="image/gif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9.gif" ContentType="image/gif"/>
  <Override PartName="/ppt/media/image25.png" ContentType="image/png"/>
  <Override PartName="/ppt/media/image22.gif" ContentType="image/gif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98F1-1360-44E2-9971-DED17E6F8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BCE3-298B-4F37-A437-65E71428E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29F06-B76E-433B-AF5E-4F1362DEB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556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0384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4728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556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0384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178B5-8988-47B7-A87B-D4C628BBD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3C267-2BD6-46FB-8C64-6499208905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F30D9-82DB-4B3D-BAA8-622DA4F898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D387A-C0D6-496E-95E0-F66F0130E4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7222C-7FBA-4849-8ADB-6B3591F7FE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A0EDD-688E-4B9D-87E4-FFB9E1769B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476360" y="54936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6BC0D-ABB4-4FD7-9906-F5A4C06D8A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672C7-5A80-46ED-991F-A0C17A5319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5A81B-9440-49B1-BE8B-C1A71C9C6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FB6F7-9C55-4913-A123-900073E3B5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0518A-3202-4A25-9F1F-896D608B90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9F06B-807B-4C4E-86BA-6FFDD8517C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4B5AB-16E4-45B0-8152-91BCAC5823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2556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70384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54728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2556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70384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607BD-C068-4F65-8234-B8DEC72AC0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FB668-0675-447C-9D1A-00C268162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563D-ED8B-4EE0-A0EA-271CFE596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9949-6B58-4FCA-88E7-7797F4152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76360" y="54936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6F37-FCBD-4FA1-A797-50A78F586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87A8-97DC-4B1D-8B62-44345275D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36317-6144-477D-9F91-1C1B1BBF6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043F-2F6F-477E-AF53-787BB5205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88BE-6174-4AEE-9A61-278C7991F84F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B8BA-3F14-4198-8E9A-A05C4E8623A5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8.jpeg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image" Target="../media/image22.gif"/><Relationship Id="rId5" Type="http://schemas.openxmlformats.org/officeDocument/2006/relationships/image" Target="../media/image23.png"/><Relationship Id="rId6" Type="http://schemas.openxmlformats.org/officeDocument/2006/relationships/image" Target="../media/image24.gif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gif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flcymru.org.uk/vtc/depression_and_fronts/eng/Introduction/plenary.ht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bbc.co.uk/learningzone/clips/clips/s_geog/bb/s_geog_ec_02985_4x3_bb.asx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Low pressure areas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or 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depressions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498D-5835-485C-B706-E27F20ED7E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80160" cy="635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5591-C06E-46AA-81DC-BED83A5509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2240" y="2176560"/>
            <a:ext cx="8772480" cy="341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CE1EF-D127-4F3D-89B9-76FC1A2B43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42920" y="1052640"/>
            <a:ext cx="42498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ol to cold or warm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clou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precipitation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n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50920" y="115920"/>
            <a:ext cx="4105080" cy="4249800"/>
            <a:chOff x="250920" y="115920"/>
            <a:chExt cx="4105080" cy="4249800"/>
          </a:xfrm>
        </p:grpSpPr>
        <p:pic>
          <p:nvPicPr>
            <p:cNvPr id="189" name="" descr=""/>
            <p:cNvPicPr/>
            <p:nvPr/>
          </p:nvPicPr>
          <p:blipFill>
            <a:blip r:embed="rId5"/>
            <a:srcRect l="50000" t="16622" r="1660" b="14121"/>
            <a:stretch/>
          </p:blipFill>
          <p:spPr>
            <a:xfrm>
              <a:off x="250920" y="115920"/>
              <a:ext cx="41050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309840" y="3573360"/>
              <a:ext cx="730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191" name="" descr=""/>
          <p:cNvPicPr/>
          <p:nvPr/>
        </p:nvPicPr>
        <p:blipFill>
          <a:blip r:embed="rId6"/>
          <a:srcRect l="1115" t="48992" r="51496" b="18239"/>
          <a:stretch/>
        </p:blipFill>
        <p:spPr>
          <a:xfrm>
            <a:off x="324000" y="4292640"/>
            <a:ext cx="4032000" cy="201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4A93-10B3-4580-B9B6-65864B5743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42920" y="1052640"/>
            <a:ext cx="42498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ol to cold or warm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clou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precipitation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n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60360" y="0"/>
            <a:ext cx="4140360" cy="4437000"/>
            <a:chOff x="360360" y="0"/>
            <a:chExt cx="4140360" cy="4437000"/>
          </a:xfrm>
        </p:grpSpPr>
        <p:pic>
          <p:nvPicPr>
            <p:cNvPr id="194" name="" descr=""/>
            <p:cNvPicPr/>
            <p:nvPr/>
          </p:nvPicPr>
          <p:blipFill>
            <a:blip r:embed="rId5"/>
            <a:srcRect l="49261" t="10031" r="0" b="15164"/>
            <a:stretch/>
          </p:blipFill>
          <p:spPr>
            <a:xfrm>
              <a:off x="360360" y="0"/>
              <a:ext cx="414036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384720" y="3787920"/>
              <a:ext cx="68040" cy="6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6"/>
          <a:srcRect l="-354" t="47951" r="50746" b="19252"/>
          <a:stretch/>
        </p:blipFill>
        <p:spPr>
          <a:xfrm>
            <a:off x="0" y="4552920"/>
            <a:ext cx="4824360" cy="230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70E5-5AF7-45F4-A8E1-8971C58DDD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42920" y="1052640"/>
            <a:ext cx="42498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ol to cold or warm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clou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precipitation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n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4360" y="404640"/>
            <a:ext cx="3958560" cy="4103640"/>
            <a:chOff x="684360" y="404640"/>
            <a:chExt cx="3958560" cy="4103640"/>
          </a:xfrm>
        </p:grpSpPr>
        <p:pic>
          <p:nvPicPr>
            <p:cNvPr id="199" name="" descr=""/>
            <p:cNvPicPr/>
            <p:nvPr/>
          </p:nvPicPr>
          <p:blipFill>
            <a:blip r:embed="rId5"/>
            <a:srcRect l="49693" t="15520" r="696" b="14880"/>
            <a:stretch/>
          </p:blipFill>
          <p:spPr>
            <a:xfrm>
              <a:off x="684360" y="404640"/>
              <a:ext cx="395856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576240" y="3777840"/>
              <a:ext cx="69120" cy="72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201" name="" descr=""/>
          <p:cNvPicPr/>
          <p:nvPr/>
        </p:nvPicPr>
        <p:blipFill>
          <a:blip r:embed="rId6"/>
          <a:srcRect l="0" t="47879" r="50969" b="18126"/>
          <a:stretch/>
        </p:blipFill>
        <p:spPr>
          <a:xfrm>
            <a:off x="684360" y="4508640"/>
            <a:ext cx="4032000" cy="202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3051-BD6E-461B-920A-7E58578591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42920" y="1052640"/>
            <a:ext cx="42498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ol to cold or warm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clou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precipitation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n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24000" y="333360"/>
            <a:ext cx="4284360" cy="6462720"/>
            <a:chOff x="324000" y="333360"/>
            <a:chExt cx="4284360" cy="6462720"/>
          </a:xfrm>
        </p:grpSpPr>
        <p:pic>
          <p:nvPicPr>
            <p:cNvPr id="204" name="" descr=""/>
            <p:cNvPicPr/>
            <p:nvPr/>
          </p:nvPicPr>
          <p:blipFill>
            <a:blip r:embed="rId5"/>
            <a:srcRect l="50310" t="16198" r="1754" b="15840"/>
            <a:stretch/>
          </p:blipFill>
          <p:spPr>
            <a:xfrm>
              <a:off x="324000" y="333360"/>
              <a:ext cx="4284360" cy="43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6"/>
            <a:srcRect l="1134" t="48842" r="50904" b="18804"/>
            <a:stretch/>
          </p:blipFill>
          <p:spPr>
            <a:xfrm>
              <a:off x="324000" y="4724280"/>
              <a:ext cx="424800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492360" y="4005360"/>
              <a:ext cx="6984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A9B1A-7CD4-4C1F-8541-947F3DF272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4"/>
          <p:cNvGrpSpPr/>
          <p:nvPr/>
        </p:nvGrpSpPr>
        <p:grpSpPr>
          <a:xfrm>
            <a:off x="1357200" y="785880"/>
            <a:ext cx="6500880" cy="2786040"/>
            <a:chOff x="1357200" y="785880"/>
            <a:chExt cx="6500880" cy="2786040"/>
          </a:xfrm>
        </p:grpSpPr>
        <p:pic>
          <p:nvPicPr>
            <p:cNvPr id="208" name="Picture 4" descr="06f.jpg"/>
            <p:cNvPicPr/>
            <p:nvPr/>
          </p:nvPicPr>
          <p:blipFill>
            <a:blip r:embed="rId1"/>
            <a:stretch/>
          </p:blipFill>
          <p:spPr>
            <a:xfrm>
              <a:off x="1357200" y="785880"/>
              <a:ext cx="6500880" cy="278604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  <p:sp>
          <p:nvSpPr>
            <p:cNvPr id="209" name="Oval 5"/>
            <p:cNvSpPr/>
            <p:nvPr/>
          </p:nvSpPr>
          <p:spPr>
            <a:xfrm>
              <a:off x="5786280" y="2286000"/>
              <a:ext cx="396720" cy="258480"/>
            </a:xfrm>
            <a:prstGeom prst="ellipse">
              <a:avLst/>
            </a:prstGeom>
            <a:solidFill>
              <a:srgbClr val="99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0" name="Oval 6"/>
            <p:cNvSpPr/>
            <p:nvPr/>
          </p:nvSpPr>
          <p:spPr>
            <a:xfrm>
              <a:off x="5143320" y="2428920"/>
              <a:ext cx="396720" cy="258480"/>
            </a:xfrm>
            <a:prstGeom prst="ellipse">
              <a:avLst/>
            </a:prstGeom>
            <a:solidFill>
              <a:srgbClr val="99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1" name="Oval 7"/>
            <p:cNvSpPr/>
            <p:nvPr/>
          </p:nvSpPr>
          <p:spPr>
            <a:xfrm>
              <a:off x="4438440" y="2508480"/>
              <a:ext cx="398160" cy="258480"/>
            </a:xfrm>
            <a:prstGeom prst="ellipse">
              <a:avLst/>
            </a:prstGeom>
            <a:solidFill>
              <a:srgbClr val="99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2" name="Oval 8"/>
            <p:cNvSpPr/>
            <p:nvPr/>
          </p:nvSpPr>
          <p:spPr>
            <a:xfrm>
              <a:off x="3714480" y="2500560"/>
              <a:ext cx="396720" cy="258480"/>
            </a:xfrm>
            <a:prstGeom prst="ellipse">
              <a:avLst/>
            </a:prstGeom>
            <a:solidFill>
              <a:srgbClr val="99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3" name="Oval 9"/>
            <p:cNvSpPr/>
            <p:nvPr/>
          </p:nvSpPr>
          <p:spPr>
            <a:xfrm>
              <a:off x="3143160" y="2214720"/>
              <a:ext cx="396720" cy="258480"/>
            </a:xfrm>
            <a:prstGeom prst="ellipse">
              <a:avLst/>
            </a:prstGeom>
            <a:solidFill>
              <a:srgbClr val="99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14" name="Right Arrow 3"/>
          <p:cNvSpPr/>
          <p:nvPr/>
        </p:nvSpPr>
        <p:spPr>
          <a:xfrm>
            <a:off x="3841920" y="2962440"/>
            <a:ext cx="1790640" cy="323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14200" y="3535200"/>
          <a:ext cx="8786880" cy="3170520"/>
        </p:xfrm>
        <a:graphic>
          <a:graphicData uri="http://schemas.openxmlformats.org/drawingml/2006/table">
            <a:tbl>
              <a:tblPr/>
              <a:tblGrid>
                <a:gridCol w="1643040"/>
                <a:gridCol w="1871640"/>
                <a:gridCol w="1757520"/>
                <a:gridCol w="1757520"/>
                <a:gridCol w="17571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hind the cold fron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 the cold fron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the warm sector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 the warm fron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head of the warm fron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 remains cold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uds thin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wind is still a bit blustery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are showers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’s a sudden drop in temperatur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uds thicken into big cumulonimbus cloud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nd speeds increase, sometimes to gale forc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’s heavy rain, sometimes with hail, sleet and thunder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temperatures are mild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loud becomes thinner and break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wind steadie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rain turns to drizzle and stop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es continue to ris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louds get thicker and lower (known as nimbostratus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rain is continuous and sometimes heavy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wind veers and becomes blustery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high thin cloud called cirru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rain at firs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2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 is quite cold but the temperatures start to ris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2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nd speeds increas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6" name="Oval 14"/>
          <p:cNvSpPr/>
          <p:nvPr/>
        </p:nvSpPr>
        <p:spPr>
          <a:xfrm>
            <a:off x="7358040" y="3714840"/>
            <a:ext cx="285840" cy="285840"/>
          </a:xfrm>
          <a:prstGeom prst="ellipse">
            <a:avLst/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Oval 15"/>
          <p:cNvSpPr/>
          <p:nvPr/>
        </p:nvSpPr>
        <p:spPr>
          <a:xfrm>
            <a:off x="5572080" y="3714840"/>
            <a:ext cx="285840" cy="285840"/>
          </a:xfrm>
          <a:prstGeom prst="ellipse">
            <a:avLst/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Oval 16"/>
          <p:cNvSpPr/>
          <p:nvPr/>
        </p:nvSpPr>
        <p:spPr>
          <a:xfrm>
            <a:off x="3857760" y="3714840"/>
            <a:ext cx="285480" cy="285840"/>
          </a:xfrm>
          <a:prstGeom prst="ellipse">
            <a:avLst/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Oval 17"/>
          <p:cNvSpPr/>
          <p:nvPr/>
        </p:nvSpPr>
        <p:spPr>
          <a:xfrm>
            <a:off x="2000160" y="3714840"/>
            <a:ext cx="285840" cy="285840"/>
          </a:xfrm>
          <a:prstGeom prst="ellipse">
            <a:avLst/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Oval 18"/>
          <p:cNvSpPr/>
          <p:nvPr/>
        </p:nvSpPr>
        <p:spPr>
          <a:xfrm>
            <a:off x="357120" y="3714840"/>
            <a:ext cx="285840" cy="285840"/>
          </a:xfrm>
          <a:prstGeom prst="ellipse">
            <a:avLst/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714240" y="71280"/>
            <a:ext cx="8001000" cy="642600"/>
          </a:xfrm>
          <a:prstGeom prst="rect">
            <a:avLst/>
          </a:prstGeom>
          <a:solidFill>
            <a:srgbClr val="ff66ff"/>
          </a:solidFill>
          <a:ln w="2844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What are the expected weather conditions at each stage of a depression as it crosses Britain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2" name="Picture 39" descr="http://www.dollymix.tv/lisasimpson.jpg"/>
          <p:cNvPicPr/>
          <p:nvPr/>
        </p:nvPicPr>
        <p:blipFill>
          <a:blip r:embed="rId22"/>
          <a:stretch/>
        </p:blipFill>
        <p:spPr>
          <a:xfrm>
            <a:off x="71280" y="1714680"/>
            <a:ext cx="1162080" cy="1611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ular Callout 24"/>
          <p:cNvSpPr/>
          <p:nvPr/>
        </p:nvSpPr>
        <p:spPr>
          <a:xfrm>
            <a:off x="857160" y="1500120"/>
            <a:ext cx="1428840" cy="714600"/>
          </a:xfrm>
          <a:prstGeom prst="wedgeRectCallout">
            <a:avLst>
              <a:gd name="adj1" fmla="val -46625"/>
              <a:gd name="adj2" fmla="val 89245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 to learn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CC7D-B09B-4B07-B46D-0C625119A4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285840" y="785880"/>
          <a:ext cx="8572320" cy="5214960"/>
        </p:xfrm>
        <a:graphic>
          <a:graphicData uri="http://schemas.openxmlformats.org/drawingml/2006/table">
            <a:tbl>
              <a:tblPr/>
              <a:tblGrid>
                <a:gridCol w="2857320"/>
                <a:gridCol w="2857680"/>
                <a:gridCol w="2857320"/>
              </a:tblGrid>
              <a:tr h="17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25" name="Picture 2" descr="Marge_shopsani.gif"/>
          <p:cNvPicPr/>
          <p:nvPr/>
        </p:nvPicPr>
        <p:blipFill>
          <a:blip r:embed="rId1"/>
          <a:stretch/>
        </p:blipFill>
        <p:spPr>
          <a:xfrm flipH="1">
            <a:off x="500040" y="836640"/>
            <a:ext cx="843120" cy="141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ular Callout 3"/>
          <p:cNvSpPr/>
          <p:nvPr/>
        </p:nvSpPr>
        <p:spPr>
          <a:xfrm>
            <a:off x="1500120" y="992160"/>
            <a:ext cx="1500120" cy="1428840"/>
          </a:xfrm>
          <a:prstGeom prst="wedgeRectCallout">
            <a:avLst>
              <a:gd name="adj1" fmla="val -85310"/>
              <a:gd name="adj2" fmla="val -7273"/>
            </a:avLst>
          </a:prstGeom>
          <a:solidFill>
            <a:srgbClr val="ff9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ge decides to give up on a day outdoors as the rain hasn't stopped for hours!  She decides to go shopping instead.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7" name="Picture 4" descr="Bart_on_skateboardani.gif"/>
          <p:cNvPicPr/>
          <p:nvPr/>
        </p:nvPicPr>
        <p:blipFill>
          <a:blip r:embed="rId2"/>
          <a:stretch/>
        </p:blipFill>
        <p:spPr>
          <a:xfrm>
            <a:off x="3143160" y="90792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228" name="Rectangular Callout 5"/>
          <p:cNvSpPr/>
          <p:nvPr/>
        </p:nvSpPr>
        <p:spPr>
          <a:xfrm>
            <a:off x="4429080" y="1143000"/>
            <a:ext cx="1428840" cy="928800"/>
          </a:xfrm>
          <a:prstGeom prst="wedgeRectCallout">
            <a:avLst>
              <a:gd name="adj1" fmla="val -77125"/>
              <a:gd name="adj2" fmla="val -19407"/>
            </a:avLst>
          </a:prstGeom>
          <a:solidFill>
            <a:srgbClr val="ff9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winds nearly blow Bart off his skateboard!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9" name="Picture 6" descr="Lisa_Simpson.png"/>
          <p:cNvPicPr/>
          <p:nvPr/>
        </p:nvPicPr>
        <p:blipFill>
          <a:blip r:embed="rId3"/>
          <a:stretch/>
        </p:blipFill>
        <p:spPr>
          <a:xfrm>
            <a:off x="6215040" y="919080"/>
            <a:ext cx="725400" cy="1214640"/>
          </a:xfrm>
          <a:prstGeom prst="rect">
            <a:avLst/>
          </a:prstGeom>
          <a:ln w="0">
            <a:noFill/>
          </a:ln>
        </p:spPr>
      </p:pic>
      <p:sp>
        <p:nvSpPr>
          <p:cNvPr id="230" name="Rectangular Callout 7"/>
          <p:cNvSpPr/>
          <p:nvPr/>
        </p:nvSpPr>
        <p:spPr>
          <a:xfrm>
            <a:off x="7143840" y="1071720"/>
            <a:ext cx="1571400" cy="1214280"/>
          </a:xfrm>
          <a:prstGeom prst="wedgeRectCallout">
            <a:avLst>
              <a:gd name="adj1" fmla="val -77125"/>
              <a:gd name="adj2" fmla="val -11101"/>
            </a:avLst>
          </a:prstGeom>
          <a:solidFill>
            <a:srgbClr val="ff9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a checks out her ‘Guide to Clouds’ book to find out the name of clouds that are high in the sky!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1" name="Picture 8" descr="Grandpa_2.gif"/>
          <p:cNvPicPr/>
          <p:nvPr/>
        </p:nvPicPr>
        <p:blipFill>
          <a:blip r:embed="rId4"/>
          <a:stretch/>
        </p:blipFill>
        <p:spPr>
          <a:xfrm>
            <a:off x="7643880" y="2643120"/>
            <a:ext cx="998640" cy="1500120"/>
          </a:xfrm>
          <a:prstGeom prst="rect">
            <a:avLst/>
          </a:prstGeom>
          <a:ln w="0">
            <a:noFill/>
          </a:ln>
        </p:spPr>
      </p:pic>
      <p:sp>
        <p:nvSpPr>
          <p:cNvPr id="232" name="Rectangular Callout 9"/>
          <p:cNvSpPr/>
          <p:nvPr/>
        </p:nvSpPr>
        <p:spPr>
          <a:xfrm>
            <a:off x="6215040" y="2637000"/>
            <a:ext cx="1500120" cy="1434960"/>
          </a:xfrm>
          <a:prstGeom prst="wedgeRectCallout">
            <a:avLst>
              <a:gd name="adj1" fmla="val 73069"/>
              <a:gd name="adj2" fmla="val -24337"/>
            </a:avLst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mpa” switches on the news to hear that a weather depression going to affect Britain soon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3" name="Picture 10" descr="Maggie_Simpson.png"/>
          <p:cNvPicPr/>
          <p:nvPr/>
        </p:nvPicPr>
        <p:blipFill>
          <a:blip r:embed="rId5"/>
          <a:stretch/>
        </p:blipFill>
        <p:spPr>
          <a:xfrm>
            <a:off x="4668840" y="2786040"/>
            <a:ext cx="1117440" cy="1266840"/>
          </a:xfrm>
          <a:prstGeom prst="rect">
            <a:avLst/>
          </a:prstGeom>
          <a:ln w="0">
            <a:noFill/>
          </a:ln>
        </p:spPr>
      </p:pic>
      <p:sp>
        <p:nvSpPr>
          <p:cNvPr id="234" name="Rectangular Callout 11"/>
          <p:cNvSpPr/>
          <p:nvPr/>
        </p:nvSpPr>
        <p:spPr>
          <a:xfrm>
            <a:off x="3348000" y="2852640"/>
            <a:ext cx="1150920" cy="1071720"/>
          </a:xfrm>
          <a:prstGeom prst="wedgeRectCallout">
            <a:avLst>
              <a:gd name="adj1" fmla="val 80898"/>
              <a:gd name="adj2" fmla="val -19629"/>
            </a:avLst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gie cheers up when the sun comes out!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5" name="Picture 12" descr="bartdancani.gif"/>
          <p:cNvPicPr/>
          <p:nvPr/>
        </p:nvPicPr>
        <p:blipFill>
          <a:blip r:embed="rId6"/>
          <a:stretch/>
        </p:blipFill>
        <p:spPr>
          <a:xfrm>
            <a:off x="1928880" y="2565360"/>
            <a:ext cx="1190520" cy="1357200"/>
          </a:xfrm>
          <a:prstGeom prst="rect">
            <a:avLst/>
          </a:prstGeom>
          <a:ln w="0">
            <a:noFill/>
          </a:ln>
        </p:spPr>
      </p:pic>
      <p:sp>
        <p:nvSpPr>
          <p:cNvPr id="236" name="Rectangular Callout 13"/>
          <p:cNvSpPr/>
          <p:nvPr/>
        </p:nvSpPr>
        <p:spPr>
          <a:xfrm>
            <a:off x="428760" y="2714760"/>
            <a:ext cx="1643040" cy="1285920"/>
          </a:xfrm>
          <a:prstGeom prst="wedgeRectCallout">
            <a:avLst>
              <a:gd name="adj1" fmla="val 70708"/>
              <a:gd name="adj2" fmla="val -23013"/>
            </a:avLst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rt finds a new jacket in the park that’s just his size!  “Excellent”, he says, “its started to get cold and it looks like it might rain!”</a:t>
            </a:r>
            <a:endParaRPr b="0" lang="en-US" sz="11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7" name="Picture 14" descr="457px-Chief_Wiggum.png"/>
          <p:cNvPicPr/>
          <p:nvPr/>
        </p:nvPicPr>
        <p:blipFill>
          <a:blip r:embed="rId7"/>
          <a:stretch/>
        </p:blipFill>
        <p:spPr>
          <a:xfrm>
            <a:off x="357120" y="4365720"/>
            <a:ext cx="1000080" cy="1311120"/>
          </a:xfrm>
          <a:prstGeom prst="rect">
            <a:avLst/>
          </a:prstGeom>
          <a:ln w="0">
            <a:noFill/>
          </a:ln>
        </p:spPr>
      </p:pic>
      <p:sp>
        <p:nvSpPr>
          <p:cNvPr id="238" name="Rectangular Callout 15"/>
          <p:cNvSpPr/>
          <p:nvPr/>
        </p:nvSpPr>
        <p:spPr>
          <a:xfrm>
            <a:off x="1285920" y="4365720"/>
            <a:ext cx="1714320" cy="1420560"/>
          </a:xfrm>
          <a:prstGeom prst="wedgeRectCallout">
            <a:avLst>
              <a:gd name="adj1" fmla="val -67870"/>
              <a:gd name="adj2" fmla="val -15921"/>
            </a:avLst>
          </a:prstGeom>
          <a:solidFill>
            <a:srgbClr val="ffff4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hief Wiggum ventures out of his police car after heavy rain and thunder to buy his coffee and doughnut.  He wasn’t expecting to get caught in a rain shower!</a:t>
            </a:r>
            <a:endParaRPr b="0" lang="en-US" sz="1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Rectangular Callout 17"/>
          <p:cNvSpPr/>
          <p:nvPr/>
        </p:nvSpPr>
        <p:spPr>
          <a:xfrm>
            <a:off x="4143240" y="4376880"/>
            <a:ext cx="1714680" cy="1428480"/>
          </a:xfrm>
          <a:prstGeom prst="wedgeRectCallout">
            <a:avLst>
              <a:gd name="adj1" fmla="val -67833"/>
              <a:gd name="adj2" fmla="val -19032"/>
            </a:avLst>
          </a:prstGeom>
          <a:solidFill>
            <a:srgbClr val="ffff4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0" name="Picture 18" descr="C-flanders.png"/>
          <p:cNvPicPr/>
          <p:nvPr/>
        </p:nvPicPr>
        <p:blipFill>
          <a:blip r:embed="rId8"/>
          <a:stretch/>
        </p:blipFill>
        <p:spPr>
          <a:xfrm>
            <a:off x="3144960" y="4286160"/>
            <a:ext cx="1317600" cy="16430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Millhouse_3ani.gif"/>
          <p:cNvPicPr/>
          <p:nvPr/>
        </p:nvPicPr>
        <p:blipFill>
          <a:blip r:embed="rId9"/>
          <a:stretch/>
        </p:blipFill>
        <p:spPr>
          <a:xfrm>
            <a:off x="6072120" y="4429080"/>
            <a:ext cx="658800" cy="1428840"/>
          </a:xfrm>
          <a:prstGeom prst="rect">
            <a:avLst/>
          </a:prstGeom>
          <a:ln w="0">
            <a:noFill/>
          </a:ln>
        </p:spPr>
      </p:pic>
      <p:sp>
        <p:nvSpPr>
          <p:cNvPr id="242" name="Rectangular Callout 19"/>
          <p:cNvSpPr/>
          <p:nvPr/>
        </p:nvSpPr>
        <p:spPr>
          <a:xfrm>
            <a:off x="6929280" y="4357800"/>
            <a:ext cx="1785960" cy="1500120"/>
          </a:xfrm>
          <a:prstGeom prst="wedgeRectCallout">
            <a:avLst>
              <a:gd name="adj1" fmla="val -67125"/>
              <a:gd name="adj2" fmla="val -5499"/>
            </a:avLst>
          </a:prstGeom>
          <a:solidFill>
            <a:srgbClr val="ffff4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TextBox 23"/>
          <p:cNvSpPr/>
          <p:nvPr/>
        </p:nvSpPr>
        <p:spPr>
          <a:xfrm>
            <a:off x="142920" y="115920"/>
            <a:ext cx="8858160" cy="70236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Arial"/>
              </a:rPr>
              <a:t>Where in the depression...? 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Read the following statements from characters in ‘The Simpsons’.  Decide which section of the depression (1-5) they are </a:t>
            </a:r>
            <a:r>
              <a:rPr b="1" lang="en-GB" sz="1200" spc="-1" strike="noStrike">
                <a:solidFill>
                  <a:srgbClr val="006699"/>
                </a:solidFill>
                <a:latin typeface="Arial"/>
              </a:rPr>
              <a:t>most likely</a:t>
            </a: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to be referring to.  Write your chosen number it in the box next to each statement.  Be ready to justify your decisions!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4" name="Picture 2" descr="http://faqsmedia.ign.com/faqs/image/article/765/765842/doh_homer_left.jpg"/>
          <p:cNvPicPr/>
          <p:nvPr/>
        </p:nvPicPr>
        <p:blipFill>
          <a:blip r:embed="rId10"/>
          <a:stretch/>
        </p:blipFill>
        <p:spPr>
          <a:xfrm>
            <a:off x="7667640" y="5950080"/>
            <a:ext cx="936720" cy="861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5" name="Text Box 42"/>
          <p:cNvSpPr/>
          <p:nvPr/>
        </p:nvSpPr>
        <p:spPr>
          <a:xfrm>
            <a:off x="466560" y="6083280"/>
            <a:ext cx="230508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99"/>
                </a:solidFill>
                <a:latin typeface="Arial"/>
              </a:rPr>
              <a:t>Categorising information and making decisions to learn!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Rectangle 43"/>
          <p:cNvSpPr/>
          <p:nvPr/>
        </p:nvSpPr>
        <p:spPr>
          <a:xfrm>
            <a:off x="396720" y="2060640"/>
            <a:ext cx="50328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Rectangle 44"/>
          <p:cNvSpPr/>
          <p:nvPr/>
        </p:nvSpPr>
        <p:spPr>
          <a:xfrm>
            <a:off x="3276720" y="2060640"/>
            <a:ext cx="50328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Rectangle 45"/>
          <p:cNvSpPr/>
          <p:nvPr/>
        </p:nvSpPr>
        <p:spPr>
          <a:xfrm>
            <a:off x="6084720" y="2060640"/>
            <a:ext cx="50328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Rectangle 46"/>
          <p:cNvSpPr/>
          <p:nvPr/>
        </p:nvSpPr>
        <p:spPr>
          <a:xfrm>
            <a:off x="2556000" y="3860640"/>
            <a:ext cx="503280" cy="358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Rectangle 47"/>
          <p:cNvSpPr/>
          <p:nvPr/>
        </p:nvSpPr>
        <p:spPr>
          <a:xfrm>
            <a:off x="5435640" y="3860640"/>
            <a:ext cx="503280" cy="358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Rectangle 48"/>
          <p:cNvSpPr/>
          <p:nvPr/>
        </p:nvSpPr>
        <p:spPr>
          <a:xfrm>
            <a:off x="8244000" y="3860640"/>
            <a:ext cx="503280" cy="358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Rectangle 49"/>
          <p:cNvSpPr/>
          <p:nvPr/>
        </p:nvSpPr>
        <p:spPr>
          <a:xfrm>
            <a:off x="324000" y="5589720"/>
            <a:ext cx="50292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Rectangle 50"/>
          <p:cNvSpPr/>
          <p:nvPr/>
        </p:nvSpPr>
        <p:spPr>
          <a:xfrm>
            <a:off x="3203640" y="5589720"/>
            <a:ext cx="50328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Rectangle 51"/>
          <p:cNvSpPr/>
          <p:nvPr/>
        </p:nvSpPr>
        <p:spPr>
          <a:xfrm>
            <a:off x="6084720" y="5589720"/>
            <a:ext cx="50328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Rounded Rectangular Callout 24"/>
          <p:cNvSpPr/>
          <p:nvPr/>
        </p:nvSpPr>
        <p:spPr>
          <a:xfrm>
            <a:off x="3635280" y="5950080"/>
            <a:ext cx="3363840" cy="863640"/>
          </a:xfrm>
          <a:prstGeom prst="wedgeRoundRectCallout">
            <a:avLst>
              <a:gd name="adj1" fmla="val 74115"/>
              <a:gd name="adj2" fmla="val 9740"/>
              <a:gd name="adj3" fmla="val 16667"/>
            </a:avLst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llenge!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blank speech bubbles.  Create two appropriate statements for a stage of the depression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D57D-4B87-48B6-B769-C000212F8C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99ff"/>
                </a:solidFill>
                <a:uFillTx/>
                <a:latin typeface="Comic Sans MS"/>
                <a:hlinkClick r:id="rId1"/>
              </a:rPr>
              <a:t>http://www.ngflcymru.org.uk/vtc/depression_and_fronts/eng/Introduction/plenary.htm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Go to the 3</a:t>
            </a:r>
            <a:r>
              <a:rPr b="1" lang="en-US" sz="3200" spc="-1" strike="noStrike" baseline="30000">
                <a:solidFill>
                  <a:srgbClr val="006699"/>
                </a:solidFill>
                <a:latin typeface="Comic Sans MS"/>
              </a:rPr>
              <a:t>rd</a:t>
            </a: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 par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C6AAB-8A60-481F-98BF-7D0753DC37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Last week we saw why sometimes we get clear skies and warm sunny weather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But we haven’t had much at that this year!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8D7BD-1F8C-4923-92EE-BE8F6220A5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205160" cy="4681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 rot="21267600">
            <a:off x="1547640" y="333000"/>
            <a:ext cx="6624720" cy="126216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3449160" y="4079160"/>
            <a:ext cx="5366160" cy="1989360"/>
            <a:chOff x="3449160" y="4079160"/>
            <a:chExt cx="5366160" cy="1989360"/>
          </a:xfrm>
        </p:grpSpPr>
        <p:pic>
          <p:nvPicPr>
            <p:cNvPr id="170" name="" descr=""/>
            <p:cNvPicPr/>
            <p:nvPr/>
          </p:nvPicPr>
          <p:blipFill>
            <a:blip r:embed="rId3"/>
            <a:srcRect l="41635" t="55725" r="44826" b="38037"/>
            <a:stretch/>
          </p:blipFill>
          <p:spPr>
            <a:xfrm rot="378000">
              <a:off x="3537000" y="5189040"/>
              <a:ext cx="234972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4"/>
            <a:srcRect l="10872" t="52040" r="58702" b="39032"/>
            <a:stretch/>
          </p:blipFill>
          <p:spPr>
            <a:xfrm rot="378000">
              <a:off x="3492000" y="4365360"/>
              <a:ext cx="52801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"/>
            <a:srcRect l="10946" t="60304" r="77150" b="36377"/>
            <a:stretch/>
          </p:blipFill>
          <p:spPr>
            <a:xfrm rot="378000">
              <a:off x="5780520" y="5505120"/>
              <a:ext cx="2066040" cy="4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61F6-F469-46E6-B130-50F5731CCF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Why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We have had a lot of low pressure areas called Depressions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63ECD-938C-40AE-A233-E5DD4C6735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At this point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 hope we can watch a BBC video which explains it a rather wel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ff"/>
                </a:solidFill>
                <a:uFillTx/>
                <a:latin typeface="Comic Sans MS"/>
                <a:hlinkClick r:id="rId3"/>
              </a:rPr>
              <a:t>http://www.bbc.co.uk/learningzone/clips/clips/s_geog/bb/s_geog_ec_02985_4x3_bb.asx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A5BA-A5CB-43B1-BBD0-FCB2A5DA9A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920" y="479700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arm air and cool air do not mix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etween 45N and 64N cold air from the poles meets warm air from the topics to form a polar fron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692360" y="333360"/>
            <a:ext cx="5545080" cy="43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9CAA-8052-4891-BA92-1F170CF28E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50920" y="479700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s warm air meets cold air, the temperature gradient is strengthened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s leads to instability and a wave forms that develops into a triangular shape – warm air inside the triangle and cold air outside it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rcRect l="32969" t="21311" r="7803" b="18238"/>
          <a:stretch/>
        </p:blipFill>
        <p:spPr>
          <a:xfrm>
            <a:off x="1692360" y="404640"/>
            <a:ext cx="5759280" cy="42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9A07-1633-4A63-A3B7-62D5C58767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479700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leading edge of the depression is called the warm front. Here the warm air, which is lighter rises above the cold air in front of it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cold air moving behind the warm air travels faster and pushes its way under the warm air. This is a cold front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rcRect l="32969" t="21311" r="7803" b="18238"/>
          <a:stretch/>
        </p:blipFill>
        <p:spPr>
          <a:xfrm>
            <a:off x="1692360" y="404640"/>
            <a:ext cx="5759280" cy="42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286F-0C16-48E1-84FF-24E2EF4673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50920" y="4365720"/>
            <a:ext cx="86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t the top of the triangle pressure falls as the warm air rises in a spiral movement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inds develop and blow around the centre of the low pressure in an anticlockwise direction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boundary between the warm air and the cold air is called a front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763640" y="0"/>
            <a:ext cx="583272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7B7F-1ECE-48D4-B18B-2F285016E6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5:28:53Z</dcterms:created>
  <dc:creator>Lindy</dc:creator>
  <dc:description/>
  <dc:language>en-US</dc:language>
  <cp:lastModifiedBy>Lindy</cp:lastModifiedBy>
  <dcterms:modified xsi:type="dcterms:W3CDTF">2009-10-03T14:36:34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